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7FD-134E-4938-979E-004588FB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20E-E4A4-462F-8AAC-6CC43072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B4676-B774-4C65-A6BB-18D23949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F3EF3-CC78-4615-B655-D80EA353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DE1C5-7640-4EE1-9132-277CD8F1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07D4D-EEBF-4A91-AEFE-C3C8F834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2195C-D8A1-4CD4-B365-8702AE23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59053-4AE4-4138-9203-2885F79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73E84-A9C8-42AC-AFBB-10017326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18840-8D3E-41C0-A3F0-97849FCF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41C52-977B-4BB2-B940-C47F4724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8890F-83D6-4C94-B77F-FD1292AE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EA6-D73A-462F-9A3C-027B84E9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1893A-39C9-4849-BEDF-BAB72BC9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0485A-408F-4135-926B-873B249B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BD75C-01A2-474E-A884-6F06592D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FF5C5-6DD0-4463-B844-F90502E8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8E97D-8DC1-4467-816C-8D52B6A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ED750-1293-419D-BAF4-3F7EED19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77595-27D0-4372-93B8-CB615941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EEDC4-06F1-4AE3-853D-6915CBFA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0FE17-286B-4306-8C80-F45A80D8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2392E-D50A-4BCF-BC8C-8DADCF01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6AD-BD30-4ABC-B30E-9DAD7AEE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7CC61-00E5-428D-97B4-6CCC37D5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86680-AC50-4A67-9A86-BE206A96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51A20-20A0-4CDC-946E-6BD00D14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C4FBD-8C4A-471C-BE61-A6D663ED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B6E47-F146-4581-828E-B7E86426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18A0B-F131-4A71-A25C-F6267392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018E7-9308-4DEF-AB04-2F3A2D75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1ABC-6F06-4BAC-81B2-1401D32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4F323-ACF6-4FB6-AADD-EECB355D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F35A3-8388-4D17-A58D-4110F50A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7EA4-0308-44A5-9BB1-47B51C96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1247C-E5FA-4BB3-9E5A-E0F1C253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73DDB-239C-4045-B2F2-5710C922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E99F8-E34A-4A2B-95E4-73FA0AF9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85B24-2AF3-4638-9A26-97278707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96C66-75CD-4D15-95A2-884913F4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FF0AF-CF1A-4EDE-835F-2A21669C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822ED-2449-46CF-A5FB-B207BF1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CEF9E-9510-4B57-BF9F-846854B5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4D10A-5A34-4C6B-93F0-97BE7FE2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CF1B2-8EFB-400B-92B5-3B122666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3C5A-349F-495A-8076-6D0A294A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71A46-E6BF-4906-AD94-0229365C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4581D-A1F0-4038-B094-BEE3AEE4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2943A-BDF2-4F51-A54D-5B555C3D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17240-5367-4DFB-86DC-CEC37AB9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47AF5-0C97-492A-A551-91391FAB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23316-8168-48E6-B504-731156A4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35936-0A6C-44BC-A638-BA63D072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566E4-FB30-4E1E-A57B-91755570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AADE1-125A-4E2F-8B10-AC7F48F4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38D08-D541-4919-8DA7-D56EEC03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ED27-CFE6-4C9E-BF22-5E225093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0F78E-2842-497E-A41F-D590127A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03255-D229-4542-9E97-4AABDA9E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DF72F-4CB8-4554-AAFD-72A8D528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A9FA4-20E7-48AF-A0E6-B3E867EA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8D1CA-E90E-4BB9-BC36-9961006B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2EAE3-C8E0-41A4-8D99-5AB5E024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5ABD9-61F9-4C45-830A-93CA77F9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94612-844F-4605-8AE2-8671273F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D2006-3268-4B90-8546-1A22DDBE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7B89C-AF68-4044-967A-D2E5BF10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246B-4786-448E-9665-96518687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27735-97DD-42E5-8E12-A9949C5D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04FE2-03A2-4810-96A8-CB0DF67C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E12F2-F44B-460B-93AE-78D2F93B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9AEB0-5129-4C99-A726-3B901056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8663B-28F2-4619-99A5-73A7243C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C7EE4-985F-48D3-9DAC-F25095D4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426A2-1356-4619-BC07-D6DE9F9E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9EDA0-4386-462C-B348-044B4234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FF91A-1B36-42C0-B568-D42A8B9F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9037B-7718-4C1D-8C11-F901ABA5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1435-5754-4EA0-86FB-52CCF503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A35CD-6A2E-42E9-95C5-E01A5343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5631C-8738-4D2D-B828-E8DFC02A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EA04B-92EA-47D4-AD0C-9C87C550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07F59-D770-4E2A-837F-3908AD22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F49CB-FEF6-495B-9FC4-840DE087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B0FD3-70F7-426B-8014-5B880F54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5EEE1-DC8D-4C16-A120-EEA87AA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27633-6773-4407-9897-65B5647F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A1854-BA36-441E-BB80-487DA09D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18ECD-7D65-4BE3-B54E-B0192397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FF13-98F9-4E6E-A7F3-8F06F14E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92EFD-F5D6-4D8B-9576-63E21454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6CB44-2DD6-41E4-A059-33116B4D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4E640-233A-4A4B-922E-0ED0B387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A722C-844E-4ECF-BF2D-087880E7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66BFD-97E7-4CB7-8B75-80EC6F39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4F419-B2DB-41C2-A57C-3BAB0394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A8067-D414-44FA-9A76-D95E1256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EBB19-64CB-4F56-9EBB-6717B1FF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0771E-D269-49A2-A3A5-2CECDDE1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4F814-EBDA-4471-9C1D-722203FE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A4EF-D75A-4555-BB51-CD6A3D7F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A2C41-BA79-4B39-AA55-A0C6C133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1E6BC-33AA-418F-B646-D7F9A666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02FAD-811D-49DB-A497-0FDB3471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2B75D-5128-40A4-9C02-0DE1485E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31CFE-837F-4AD5-8450-1FD6BD82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621BB5-E56A-4BDF-923E-C47F9CCA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90419-C8A5-4419-B85E-5956A7A5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06A46D-1631-44C4-BC07-8AE2CCBE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F6181-9525-4A2F-A23E-35C1532A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521CE-F21B-4E73-99D4-70DFB09D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F2D-59B7-4356-8D82-26E9DA3B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3061-0130-4AA5-8AF8-A7E9A476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8D039-02B0-4C39-A6F9-7532BE98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0379BB-9068-4D65-AE88-E4C90780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46A47B-59C6-48B1-9AAF-6DBF35E4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AFAA5D-389E-4123-9739-9C086C54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AA698-4EAF-4F6A-9B63-94F1F208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F07BD-B252-4E16-8E47-1A6C83D6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1E124B-9934-403F-8879-C120947F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9E4E5-CDD8-49D6-9F1E-86F83277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6562A-4570-4588-BEB7-7E240A9A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88AE0-3D46-487E-979E-4E25CF4C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3F06-4A47-429D-855A-2B6D1C47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8EE5A-A568-4687-8D5D-D3C00209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0B7D3-8B04-48A2-A053-FC882782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7F57B-614D-47E3-AE5D-EEA8BE7B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80385-BEEC-4867-B44D-2809E7D2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F60848-86E9-46B9-8F02-736C5CA9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0EDFE-19CC-4A4C-9C25-82A4ED3F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B1304-0EAF-48E0-9680-FEE3AF6E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0B71C-B1F8-487C-BE14-A5A12C3E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7F31B2-B61B-484D-83E2-5F0E4427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6E4CE-1EE1-4512-94D6-31F13E31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0789-1CF1-4DF8-91CB-72F8ED35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BBF0C-EB94-4FE9-9A77-7CEF08E2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0269BD-87CC-4764-89AA-6BB7F68E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CCD265-3862-486A-962D-26C887E9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0B627E-9406-4D7C-A5FE-3AA9B156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A6181-FCC5-4418-A7D6-95CB645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0D0D1-D22C-4B07-BBD0-40DBA284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7C31DB-BF20-446F-82AC-E488FB69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486FA-0721-44B3-A3A6-17654709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91EB9B-8731-4695-BB16-C4D1055E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AFCBF0-DDB3-46F5-B4C8-33EB5D48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9FC3-C0A5-42F2-81C1-9BC10628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6BED9-214D-42C4-81FD-1D2E5C8B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E54EC5-0D6B-475B-AA05-BCBB2F64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A90CE7-ACE7-4E45-8BBA-5F692FAF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AE30D-0CBB-4A03-8DBF-38710761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8B4FF-DC58-42DB-9546-C017FA73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A6DE3E-2B0B-463A-8104-B2F1BBDF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386084-E759-454B-8BE4-BAA17ECC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726EB-76BA-4088-9133-60D6953C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1C754-96B4-4C9C-AEF2-8F01AA69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2974B-600D-41E3-9C77-9A759279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39F3-16AD-401B-A0E1-C0EBB020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409A52-F903-4913-A035-C615268B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558A10-DDF2-4CD5-A4AE-3B62678B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45C90-B1DE-4AAF-9529-980B48A3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0F332E-0788-461E-AE3F-59EAF1FE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8F82E4-D84A-4AF9-BE1D-565066B3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AFEDB-45EF-48EC-B2FC-7D11B66A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C7A04B-2FEB-481E-B81B-58B46ABC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423ACD-20B8-4873-BD35-65C8D0D7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890C9-E4AC-439D-B18A-AE908DE3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EBAC85-634E-4DA6-AE19-92C3C7E4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E9F3-5418-4DFD-8A14-0192573A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C9322-17B0-4C87-BB0C-5826E3CB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A32B55-44D6-4620-A233-3FF52109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DA1F09-6C8C-4C62-B401-9A6F86A2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7361-AD61-434D-860C-0073782C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3AF2-FD2B-46FF-AB39-C55067E3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8B99-0FC9-4A0B-AA73-44901666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793F-C9D7-4F7D-963A-24E94B64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6C4-DE42-49E8-80C4-CCF5DC60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7580A-6FA7-484C-B2CF-F1CECD92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A2AC-8229-418E-9C1E-BB501A75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317C-C9FE-4FC6-9071-583AF039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64A67-DE36-44B0-9767-690658F9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1410-88CD-41F6-9BFF-92B3FA8A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2FBF-26ED-4611-B070-1654DA1F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4BED-13CE-41A3-90BC-1106BD2B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4DD5B-7F9B-4877-8408-341F0642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62C1B-016B-4027-B240-3B7B29DA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0DC8-D611-4002-BF10-8DB50DEA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C08-1277-4270-8E34-C053F386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F112-6F03-4D13-ABA4-AFA7CF6F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AC9D-F9ED-4CBE-B5A1-CE983FFD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553B-D028-4CE5-8DE0-E9674ED0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6B56-2ABB-4A34-9E7E-113BB941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1BBDC-FCB3-411E-B835-459A1B4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4572-6CA2-4C7D-A606-16D74726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964A4-0BE3-46B7-B0C0-308DB0A8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B95B-23F9-464C-8CDC-B700A47D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9CA7-19A0-4114-9BAE-D3EB03CA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B8B03-C772-4264-82CA-224E35E7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4D2-1522-4132-99D5-D9B704BE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46760-FCAB-4466-A352-8ADE15DD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97DEE-0537-4F18-AD77-DB755B4B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A9AA0-3119-4C28-A949-26A5A543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08576-46F1-4AA6-9F1D-DB36DCC9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97390-B064-4CF0-8F3A-67D5A2EF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C66D6-485A-49AB-AE86-5BDFC732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90F25-77E7-4E07-8C69-D7FEEE4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83DE5-6F4F-486A-AC12-C31785AA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CFAD6-65E1-4E5A-855D-DD3900C5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A6F4-7C0B-4DAA-AA8F-A4A3FDCC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0B0-10CC-4576-95A4-0F3F829B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532D7-7B6A-4480-A7B3-2FA7A06B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FF3FA-8854-4624-85D5-08035AC8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76177-719A-44C4-B9C0-561C8D70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A2C2E-A0B9-463A-88BD-BF7C816C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CDBE4-D682-4806-B807-8EE00297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97417-AAE3-4CA7-B6DB-0B9E35BA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37429-FA5C-4E85-BC00-E5510CA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A5959-E469-4E19-B7C7-0D7B6B3F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046BC-809D-4E88-A822-9C6D508D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C8727-5519-4994-BB33-12D3DFBF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C4A-0799-4869-9911-FD476374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51F96-6613-4055-8FD4-410B401A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B8C94-03F0-43DA-ACDA-06CEA846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ED069-AB43-4565-8066-31DDD519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CA165-7EA4-4611-A54E-A2CBFA20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8A1D7-8072-46CC-B070-D95D7387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8BA75-0D15-4D0E-890D-7CC0A295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30773-ECD6-4981-B629-BC937B4C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37769-6DE1-4C7E-987B-79188E7B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748D0-15D5-4E9B-8455-58075D61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F5F46-552D-462C-A097-236E2808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13E-4C36-4280-8D4C-55B30A9E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A5FAC-C23B-45CC-9A4F-527863BA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58D84-1FE9-4CE3-993D-C69A8EF0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A0553-1441-4B8D-B9B6-82D38CFA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B277B-DF5C-4B2E-A465-A87055BE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2D3BF-FA7F-4EA5-BC6B-CC5D01EA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289D3-AD43-4295-B62A-D0E1A2AE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CF2C3-4C2F-4741-8233-6805542F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00891-0C44-452A-80C9-3E72A4B5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10D8F-97FF-4D3B-9BCC-1C3C12E2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24CC8-8E11-40BF-92DC-1B1B758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0E7-F296-42A8-B9B3-8E6626C0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75B47-0327-41C6-B06E-36323B4F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F7281-C985-40D9-A491-6E77DB72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0D476-C1D5-4E5C-AA86-33C29762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2A0FB-3269-46AB-BF5D-6AFDA09C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C8309-74EE-443B-8447-0FD5AB95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3C7C7-61F5-4FC9-B748-F13030A3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2173D-D095-4101-8605-FC7C4B5C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CB112-D4A2-41F4-BE3F-1D0334F4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DBCF4-0BBC-40E6-80EB-42A89284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7D22B-803D-4A59-8957-B74E7DA2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4D0E-EBBC-4C85-817A-6660BB9D2B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2F20-189F-4049-A47D-619C628E4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C873-4B7B-47F6-A7AE-5BF6C90D37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AD66-DEF2-4709-9AC1-AEDCDB41BB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7277-1CDF-4416-8F6C-C91C6F3765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FD47-C5C1-4FE6-B5F5-863FF2E64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FBA1-6216-4809-8B7A-CE151B053C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6D5B-DDFA-406F-8241-9C3876BB8F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C321-38A0-4369-924D-BDECBAB812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5675-19B1-41AF-8E51-E939A3680A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458C-6AD8-4CFB-BAC6-0E8F5D53B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C5D9-DC4E-4872-AF20-CC01D47685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9F4-1948-41A9-A01D-49A4D356D2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A7EF-B3BC-4784-A8E9-2F508712BB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3A35-911D-475E-99AD-2D45450EC9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81BC-EF02-474A-A095-214A162B40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AFF5-AAD1-4381-8FE0-E62F261E50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E0E8-2DC2-47A6-B5CB-2994E8790E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B9CA-FF69-4FD6-9CF3-A300084B31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D29D-3C91-4995-BED0-199AB8B7BB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750E-C474-49A2-8B45-286AC03F03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C2F3-CBAC-4318-8E97-A0A2D97C6C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1AD9-2FC6-4314-A62A-C5780EBD28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9736-4D03-4B61-9459-9E029C45C5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6989-1200-4A1D-AB93-CC11DE73A1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4D00-AFFE-4DE9-ABD3-2BBB9C39B6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8C83-608A-4AF4-9778-525AF0022D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5490-A7AD-457F-91D3-65F4C4C9CE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50F6-FA5D-442C-AFB7-F14E4A3A4E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D130-A0AD-49E3-9326-569C2377B4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84B0-00EB-4CC4-8178-4C64E190EF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AF34-DCA9-4C63-8EF3-FF04CD5B3A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C2F3-6DCF-4838-BC89-1BF4F91ED5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2B22-A8A8-49DE-A12A-304ECF4448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24A7-318E-4420-8803-A0421454BC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2E5E-8A33-4B2E-80EC-4D6876BB4E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5E1F-E1AE-4334-AEF0-50AC0E9162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A5D3-D222-4BAA-ACB3-B1A9C7AFDB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09B4-4FCC-4225-907B-0D377583CE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8905-700F-43C4-A043-C4BF130D5A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4920" y="2349360"/>
            <a:ext cx="89661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2231" descr=""/>
          <p:cNvPicPr/>
          <p:nvPr/>
        </p:nvPicPr>
        <p:blipFill>
          <a:blip r:embed="rId1"/>
          <a:stretch/>
        </p:blipFill>
        <p:spPr>
          <a:xfrm>
            <a:off x="243000" y="1128600"/>
            <a:ext cx="8658000" cy="46008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1547640" y="4479840"/>
            <a:ext cx="7596360" cy="479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1258920" y="5157720"/>
            <a:ext cx="7596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69633" descr=""/>
          <p:cNvPicPr/>
          <p:nvPr/>
        </p:nvPicPr>
        <p:blipFill>
          <a:blip r:embed="rId1"/>
          <a:stretch/>
        </p:blipFill>
        <p:spPr>
          <a:xfrm>
            <a:off x="785880" y="1547640"/>
            <a:ext cx="7572240" cy="37627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3960720" cy="4791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971640" y="4149720"/>
            <a:ext cx="7488000" cy="479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7488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1171440"/>
            <a:ext cx="8610480" cy="4515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796000" y="3298680"/>
            <a:ext cx="1152360" cy="479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588000" y="3933720"/>
            <a:ext cx="1152720" cy="479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24360" y="4581360"/>
            <a:ext cx="1152360" cy="479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411280" y="5157720"/>
            <a:ext cx="1152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11280" y="698400"/>
            <a:ext cx="7810560" cy="6115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4788000" y="677880"/>
            <a:ext cx="863640" cy="479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7308720" y="722160"/>
            <a:ext cx="863640" cy="479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1476360" y="1930320"/>
            <a:ext cx="1079640" cy="47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4111560" y="1916280"/>
            <a:ext cx="1079640" cy="4791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6012000" y="2565360"/>
            <a:ext cx="1439640" cy="479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1835280" y="3170160"/>
            <a:ext cx="1152360" cy="479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8"/>
          <a:stretch/>
        </p:blipFill>
        <p:spPr>
          <a:xfrm>
            <a:off x="1692360" y="5056200"/>
            <a:ext cx="136692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9"/>
          <a:stretch/>
        </p:blipFill>
        <p:spPr>
          <a:xfrm>
            <a:off x="4500720" y="5084640"/>
            <a:ext cx="136656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0"/>
          <a:stretch/>
        </p:blipFill>
        <p:spPr>
          <a:xfrm>
            <a:off x="6588000" y="5675400"/>
            <a:ext cx="1366920" cy="4791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1"/>
          <a:stretch/>
        </p:blipFill>
        <p:spPr>
          <a:xfrm>
            <a:off x="2050920" y="6335640"/>
            <a:ext cx="13669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76801" descr=""/>
          <p:cNvPicPr/>
          <p:nvPr/>
        </p:nvPicPr>
        <p:blipFill>
          <a:blip r:embed="rId1"/>
          <a:stretch/>
        </p:blipFill>
        <p:spPr>
          <a:xfrm>
            <a:off x="295200" y="809640"/>
            <a:ext cx="8553600" cy="5715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7885080" y="220500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885080" y="35002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7885080" y="410544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7885080" y="537372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7956720" y="5964120"/>
            <a:ext cx="576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8373" descr=""/>
          <p:cNvPicPr/>
          <p:nvPr/>
        </p:nvPicPr>
        <p:blipFill>
          <a:blip r:embed="rId1"/>
          <a:stretch/>
        </p:blipFill>
        <p:spPr>
          <a:xfrm>
            <a:off x="1133640" y="741240"/>
            <a:ext cx="6876720" cy="6000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3924360" y="1773360"/>
            <a:ext cx="201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7352" descr=""/>
          <p:cNvPicPr/>
          <p:nvPr/>
        </p:nvPicPr>
        <p:blipFill>
          <a:blip r:embed="rId1"/>
          <a:stretch/>
        </p:blipFill>
        <p:spPr>
          <a:xfrm>
            <a:off x="604800" y="2104920"/>
            <a:ext cx="7934400" cy="26481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2916360" y="2909880"/>
            <a:ext cx="934920" cy="479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948360" y="2938320"/>
            <a:ext cx="1224000" cy="479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3276720" y="3573360"/>
            <a:ext cx="122400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6948360" y="3573360"/>
            <a:ext cx="122400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3301920" y="4206960"/>
            <a:ext cx="793800" cy="479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7164360" y="4206960"/>
            <a:ext cx="7938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6324" descr=""/>
          <p:cNvPicPr/>
          <p:nvPr/>
        </p:nvPicPr>
        <p:blipFill>
          <a:blip r:embed="rId1"/>
          <a:stretch/>
        </p:blipFill>
        <p:spPr>
          <a:xfrm>
            <a:off x="314280" y="1805040"/>
            <a:ext cx="8515440" cy="3247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2411280" y="3241800"/>
            <a:ext cx="1368720" cy="4791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6732720" y="3213000"/>
            <a:ext cx="151128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2340000" y="3860640"/>
            <a:ext cx="151128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6400800" y="3860640"/>
            <a:ext cx="151128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2239920" y="4465800"/>
            <a:ext cx="1511280" cy="4791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6386400" y="4479840"/>
            <a:ext cx="15112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5300" descr=""/>
          <p:cNvPicPr/>
          <p:nvPr/>
        </p:nvPicPr>
        <p:blipFill>
          <a:blip r:embed="rId1"/>
          <a:stretch/>
        </p:blipFill>
        <p:spPr>
          <a:xfrm>
            <a:off x="324000" y="1209600"/>
            <a:ext cx="8496000" cy="44388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1729080" cy="479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788000" y="5013360"/>
            <a:ext cx="1728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4276" descr=""/>
          <p:cNvPicPr/>
          <p:nvPr/>
        </p:nvPicPr>
        <p:blipFill>
          <a:blip r:embed="rId1"/>
          <a:stretch/>
        </p:blipFill>
        <p:spPr>
          <a:xfrm>
            <a:off x="1571760" y="1952640"/>
            <a:ext cx="6000480" cy="2952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908000" y="4292640"/>
            <a:ext cx="1727280" cy="479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17272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20:0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